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8DE-1060-4482-BC4D-F95E4880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C12-440C-4FF8-8DB9-3C785A1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702-8DCB-47C5-BA44-0F0E3C88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41C-A7EE-4A24-8363-BDD2B1EF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13D1-E98F-4F06-8759-493AE763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5593-D8C0-43BC-80F6-427B0B1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B557-07A6-480B-A1DF-A750330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D58-B402-4D8F-99A3-64EBB73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DB1-B317-40D3-BE28-B12044D2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D42-B93B-4327-9167-B37BBB2C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B9D-E81F-4725-8908-19D1CD3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CF8-9AEF-497E-B411-B6D5110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5CCD-787A-470F-B88B-49B768B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32F4-BFE3-49BA-B23F-EB22225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00A7-BF5C-4350-8327-21C7B2D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86F-5071-4732-A574-6089E153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EFD0-0E31-4746-A65D-1F58613D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ACB-4183-4808-98A6-8C8EE8F6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516-133E-414F-9E0C-5C4466D9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D9E-0811-4ACE-AD71-48960A4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E37-8E4C-4F6E-A21D-4EA4C32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712-DDCA-4494-B7E6-782B36E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B41-4B1D-43D9-876F-44E611C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EA0-195D-4BCD-B821-C018C9E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22CA-F098-4CD6-93B6-9BCB796C9171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2ED-215A-43A1-B69D-3240E9DB61A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o/a/a0/Ploaie_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53880"/>
            <a:ext cx="7696080" cy="5970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ECHIPA</a:t>
            </a:r>
            <a:r>
              <a:rPr b="1" lang="en-US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CLAEI </a:t>
            </a:r>
            <a:r>
              <a:rPr b="1" lang="en-US" sz="4000" spc="-1" strike="noStrike">
                <a:solidFill>
                  <a:srgbClr val="666633"/>
                </a:solidFill>
                <a:latin typeface="comic"/>
              </a:rPr>
              <a:t>I-III C</a:t>
            </a: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 VA INVITA IN </a:t>
            </a:r>
            <a:r>
              <a:rPr b="1" lang="en-US" sz="4000" spc="-1" strike="noStrike">
                <a:solidFill>
                  <a:srgbClr val="666633"/>
                </a:solidFill>
                <a:latin typeface="comic"/>
              </a:rPr>
              <a:t>NATURA</a:t>
            </a:r>
            <a:br>
              <a:rPr sz="4000"/>
            </a:br>
            <a:endParaRPr b="0" lang="en-US" sz="4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lackadder ITC"/>
              </a:rPr>
              <a:t>Fenomene ale naturi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00"/>
                </a:solidFill>
                <a:latin typeface="Arial"/>
              </a:rPr>
              <a:t>MEMBRII</a:t>
            </a: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808000"/>
                </a:solidFill>
                <a:latin typeface="Arial"/>
              </a:rPr>
              <a:t>ECHIPEI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a  Cri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y No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fi Brig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ho E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Sz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Nor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geti Sandor    Indrumator: Halmagyi Izab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371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733920"/>
            <a:ext cx="1981440" cy="13716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enomene ale naturii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ge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752480"/>
            <a:ext cx="3886200" cy="1981440"/>
          </a:xfrm>
          <a:prstGeom prst="wedgeEllipseCallout">
            <a:avLst>
              <a:gd name="adj1" fmla="val -60865"/>
              <a:gd name="adj2" fmla="val 407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omenul luminos care insoteste trasnetul se num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ar fenomenul acustic poarta denumire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298116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019920" y="2057400"/>
            <a:ext cx="22860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957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unet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524400"/>
            <a:ext cx="2305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Fişier:Ploaie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8400" y="2895480"/>
            <a:ext cx="556560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36268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aia este o parte importantă a circuitului apei în natură şi are loc după ce apa care s-a evaporat din râuri, lacuri, oceane, ş.a.m.d. se condensează ajungând picături de apă şi cade pe pământ, întorcându-se înapoi în pârâuri, râuri, lacu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219320"/>
            <a:ext cx="2743200" cy="1218960"/>
          </a:xfrm>
          <a:prstGeom prst="cloudCallout">
            <a:avLst>
              <a:gd name="adj1" fmla="val -98379"/>
              <a:gd name="adj2" fmla="val 1222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6633"/>
                </a:solidFill>
                <a:latin typeface="Arial"/>
              </a:rPr>
              <a:t>Plo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4114800"/>
            <a:ext cx="807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urcubeul este  cel mai frumos fenomen din atmosferă. El este asociat cu liniştea şi lumina de după ploaia căzută din nori întunecaţi şi a impresionat omenirea din toate timpurile, fiind considerat un "semn ceresc" care aduce binele, pacea şi prosperitatea.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Curcubeul este un fenomen optic vizibil atunci când soarele bate din spatele nostru în perdeaua de nori sau de apă din faţă, lumina reflectându-se pe bolta senină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05520" y="609480"/>
            <a:ext cx="2057400" cy="16002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rcub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nsoarea</a:t>
            </a:r>
            <a:br>
              <a:rPr sz="3400"/>
            </a:b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46360" y="594180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 de sus cu cel de jos,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ac pe apă-un pod fru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gheaţa şi ger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040" y="4419360"/>
            <a:ext cx="26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f de stea pe-un f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â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ulgul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29080" y="1828800"/>
            <a:ext cx="3814920" cy="4114800"/>
            <a:chOff x="5329080" y="1828800"/>
            <a:chExt cx="3814920" cy="411480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329080" y="1828800"/>
              <a:ext cx="3814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5329080" y="1828800"/>
              <a:ext cx="38149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cc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666633"/>
                </a:solidFill>
                <a:latin typeface="Arial"/>
              </a:rPr>
              <a:t>Evaluare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s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portofoli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Vă mulţumi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52:49Z</dcterms:created>
  <dc:creator>ws13</dc:creator>
  <dc:description/>
  <dc:language>en-US</dc:language>
  <cp:lastModifiedBy>user</cp:lastModifiedBy>
  <dcterms:modified xsi:type="dcterms:W3CDTF">2010-01-24T09:52:29Z</dcterms:modified>
  <cp:revision>5</cp:revision>
  <dc:subject/>
  <dc:title>ECHIPA CLASEI I-III C VA INVITA IN NATURA </dc:title>
</cp:coreProperties>
</file>